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85A-DE41-4B6A-B3B0-AE093899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663-087C-4516-9228-81CBDDAB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ED4-A45E-4217-84A7-64778267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E3E-D32C-4851-8932-83B6430D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A4D-F781-40E4-BAAA-61CF45DD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7D6-2325-40DC-A518-2F3578C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306-5971-49A4-B9C1-05CEA19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675-DCF5-48EF-9BD9-A4E9DF54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910-A83B-43A3-99D9-A3C145B4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64F-A7A7-45E6-BA32-AA3FED0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19D-F9ED-445B-950F-53086B7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034-DCFE-46EA-AC86-86E3439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7400-C0E0-4636-B4A4-437CE3EE8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e water in the lake looks beautiful.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Animals are living in that tree.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We are getting a box that is full of paper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It was warm when we were walking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Arial"/>
              </a:rPr>
              <a:t>Please water the flowers if they are drooping or dropping.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My sister closes her eyes when she sneezes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Getting to school early leaves us time to play.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Arial"/>
              </a:rPr>
              <a:t>Tim loves animals and takes good care of them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e teacher stopped and jumped on the bus that was full of kid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Arial"/>
              </a:rPr>
              <a:t>A warm day makes people everywhere think of going outside and taking it easy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I shaded my eyes from the sun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My dad and I will go visiting early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We petted some animals at the farm.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We showed Mom the pail that is full of nuts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I wanted a warm coat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Are you getting a glass of water?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He was rubbing his eyes.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He likes to get up early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Laura McDow</cp:lastModifiedBy>
  <dcterms:modified xsi:type="dcterms:W3CDTF">2010-09-02T15:15:42Z</dcterms:modified>
  <cp:revision>24</cp:revision>
  <dc:subject/>
  <dc:title>He is always happy.</dc:title>
</cp:coreProperties>
</file>